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CC3A-A049-4817-A12D-B317EE7E2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3FA4-7FFF-42FA-9B33-4165F3933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1780-FFC4-42D4-A6AF-B49162B49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49AB-1404-4B45-81BA-B0B0D281E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9A21-5060-4EE2-9618-17FF6EF88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3049B-FD48-4E92-B188-0A1661EBBC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F54DE-BABD-4568-A64B-DC86223D54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02944-26BE-4E2A-BA68-18675E2A73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E0C63-5A29-47F2-8D63-5D3FBEC59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CE0F-37A6-4A97-AF4B-7B932FC892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82C62-7D56-4FB8-8103-FC981ECECA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B3EA2-36FB-4D70-92A8-2E095AA0302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55622-43B3-43A8-97D9-D6DD9AD399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18E3D-3E7C-4022-AA17-C259E63BF5A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BB006-A881-41F5-A359-556FADEC5E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B450E-A14D-4718-9C74-424724A4186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126E4-0FFA-405F-A058-CCD30F911F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A5C9D-EADB-4A0A-880A-CEF5C7D1E6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FD1CE-B50C-455C-A736-3E4CB6B21C8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228-B71B-42C5-B581-52EFC7F29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7C1E-D702-4F48-B9B4-22124E00E9C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A3A-E7F1-4684-A3D1-B76CCED003D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32C-184F-4308-987E-3CE780112A4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5C3-66E3-4E1B-8A67-C513DA795B9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4F35-5239-4E88-9626-5DE94D1B490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294B-6563-4DA9-9D60-4D62A20FADF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454-1812-45AC-9B01-D5124BAB5E5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AD1D-86C7-42F6-A0A8-9E95CCDB644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CB5B-A944-4D67-B2A5-CAF9EBF438E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FAE6-D04F-4912-B3F8-2C1ECF83233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8F8-2395-4153-9704-2DACDE432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77F9B-6215-452D-AC71-6C2D60DD131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C1B-D391-49A9-AC55-AD555A86A66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1B09-CEDF-4577-85E3-39955B49E7E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0CFE-59E1-459B-B6FA-0795C2200F6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9F17-7B43-434C-B222-3C63B9EE3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ild 8" descr=""/>
          <p:cNvPicPr/>
          <p:nvPr/>
        </p:nvPicPr>
        <p:blipFill>
          <a:blip r:embed="rId2"/>
          <a:stretch/>
        </p:blipFill>
        <p:spPr>
          <a:xfrm>
            <a:off x="71658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1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732360" y="167400"/>
            <a:ext cx="205740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605F-584B-4A11-B625-B8354171A344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5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ild 8" descr=""/>
          <p:cNvPicPr/>
          <p:nvPr/>
        </p:nvPicPr>
        <p:blipFill>
          <a:blip r:embed="rId2"/>
          <a:stretch/>
        </p:blipFill>
        <p:spPr>
          <a:xfrm>
            <a:off x="71658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43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4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5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46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47" name="Bild 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Bild 8" descr=""/>
          <p:cNvPicPr/>
          <p:nvPr/>
        </p:nvPicPr>
        <p:blipFill>
          <a:blip r:embed="rId2"/>
          <a:stretch/>
        </p:blipFill>
        <p:spPr>
          <a:xfrm>
            <a:off x="71658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85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6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7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88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Bild 8" descr=""/>
          <p:cNvPicPr/>
          <p:nvPr/>
        </p:nvPicPr>
        <p:blipFill>
          <a:blip r:embed="rId2"/>
          <a:stretch/>
        </p:blipFill>
        <p:spPr>
          <a:xfrm>
            <a:off x="71658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126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7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8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29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130" name="Bild 9" descr=""/>
          <p:cNvPicPr/>
          <p:nvPr/>
        </p:nvPicPr>
        <p:blipFill>
          <a:blip r:embed="rId3"/>
          <a:srcRect l="0" t="6489" r="0" b="7057"/>
          <a:stretch/>
        </p:blipFill>
        <p:spPr>
          <a:xfrm>
            <a:off x="0" y="476280"/>
            <a:ext cx="9144000" cy="5940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ldNum" idx="2"/>
          </p:nvPr>
        </p:nvSpPr>
        <p:spPr>
          <a:xfrm>
            <a:off x="6732360" y="167400"/>
            <a:ext cx="205740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FCEC-60C1-4B95-AFAB-452FB9D4CA06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Bild 8" descr=""/>
          <p:cNvPicPr/>
          <p:nvPr/>
        </p:nvPicPr>
        <p:blipFill>
          <a:blip r:embed="rId2"/>
          <a:stretch/>
        </p:blipFill>
        <p:spPr>
          <a:xfrm>
            <a:off x="71658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169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0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1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172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grpSp>
        <p:nvGrpSpPr>
          <p:cNvPr id="173" name="Tabellenplatzhalter 5"/>
          <p:cNvGrpSpPr/>
          <p:nvPr/>
        </p:nvGrpSpPr>
        <p:grpSpPr>
          <a:xfrm>
            <a:off x="360360" y="1116000"/>
            <a:ext cx="8429760" cy="4995720"/>
            <a:chOff x="360360" y="1116000"/>
            <a:chExt cx="8429760" cy="4995720"/>
          </a:xfrm>
        </p:grpSpPr>
        <p:sp>
          <p:nvSpPr>
            <p:cNvPr id="174" name=""/>
            <p:cNvSpPr/>
            <p:nvPr/>
          </p:nvSpPr>
          <p:spPr>
            <a:xfrm>
              <a:off x="360360" y="1116000"/>
              <a:ext cx="15476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8000" y="1116000"/>
              <a:ext cx="21654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73400" y="1116000"/>
              <a:ext cx="10321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05520" y="1116000"/>
              <a:ext cx="9255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31080" y="1116000"/>
              <a:ext cx="16380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69080" y="1116000"/>
              <a:ext cx="11210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d9222a"/>
                  </a:solidFill>
                  <a:latin typeface="Calibri"/>
                </a:rPr>
                <a:t>Titel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0360" y="1487520"/>
              <a:ext cx="1547640" cy="4624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Das Profil der KJF mit dem Gesamtansatz </a:t>
              </a:r>
              <a:br>
                <a:rPr sz="1200"/>
              </a:b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„Profilupdate“ im </a:t>
              </a:r>
              <a:br>
                <a:rPr sz="1200"/>
              </a:b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Verband verstärkt </a:t>
              </a:r>
              <a:br>
                <a:rPr sz="1200"/>
              </a:br>
              <a:r>
                <a:rPr b="1" lang="de-DE" sz="1200" spc="-1" strike="noStrike">
                  <a:solidFill>
                    <a:srgbClr val="636462"/>
                  </a:solidFill>
                  <a:latin typeface="Calibri"/>
                  <a:ea typeface="Calibri"/>
                </a:rPr>
                <a:t>in den Fokus rück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08000" y="1487520"/>
              <a:ext cx="21654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Fortsetzung des Dialogs zum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Gesamtansatz „Profilupdate“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mit den Führungskräften in einer Leiterkonferenz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73400" y="1487520"/>
              <a:ext cx="103212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05520" y="1487520"/>
              <a:ext cx="92556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31080" y="1487520"/>
              <a:ext cx="16380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Der Gesamtansatz wird von den Mitarbeiter/innen wahrgenomm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69080" y="1487520"/>
              <a:ext cx="112104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siehe Anhang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08000" y="2394000"/>
              <a:ext cx="216540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Kommunikation des Profilupdate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Gesamtansatzes mit allen Mitarbeitern z.B. durch: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- Storytelling (regelmäßige Botschaften im KJF-Mitarbeiterportal)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- Anpassung Programm „Herzlich Willkommen“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- Einbindung des Gesamtansatz „Profilupdate“ in das KJF-Führungskräftekonzept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73400" y="2394000"/>
              <a:ext cx="103212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05520" y="2394000"/>
              <a:ext cx="92556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31080" y="2394000"/>
              <a:ext cx="163800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Der Gesamtansatz wird von den Mitarbeiter/innen wahrgenomm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69080" y="2394000"/>
              <a:ext cx="1121040" cy="28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siehe Anhang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08000" y="5205240"/>
              <a:ext cx="21654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Fortsetzung des Dialogs zum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Gesamtansatz „Profilupdate“ </a:t>
              </a:r>
              <a:br>
                <a:rPr sz="1200"/>
              </a:b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mit den Führungskräften in einer Leiterkonferenz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73400" y="5205240"/>
              <a:ext cx="103212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1. Quartal 2016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05520" y="5205240"/>
              <a:ext cx="92556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31080" y="5205240"/>
              <a:ext cx="163800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Der Gesamtansatz wird von den Mitarbeiter/innen wahrgenommen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69080" y="5205240"/>
              <a:ext cx="1121040" cy="90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72000" bIns="72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36462"/>
                  </a:solidFill>
                  <a:latin typeface="Calibri Light"/>
                  <a:ea typeface="Calibri Light"/>
                </a:rPr>
                <a:t>siehe Anhang</a:t>
              </a:r>
              <a:endParaRPr b="0" lang="en-US" sz="12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0800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7340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3108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6908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0360" y="1487520"/>
              <a:ext cx="842976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08000" y="2394000"/>
              <a:ext cx="688212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08000" y="5205240"/>
              <a:ext cx="688212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036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790120" y="1116000"/>
              <a:ext cx="0" cy="499572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0360" y="1116000"/>
              <a:ext cx="842976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0360" y="6111720"/>
              <a:ext cx="8429760" cy="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47678"/>
                </a:solidFill>
                <a:latin typeface="Calibri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sldNum" idx="3"/>
          </p:nvPr>
        </p:nvSpPr>
        <p:spPr>
          <a:xfrm>
            <a:off x="6732360" y="167400"/>
            <a:ext cx="205740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34FE-33BD-4173-A865-ED1ACA70A2D9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Bild 8" descr=""/>
          <p:cNvPicPr/>
          <p:nvPr/>
        </p:nvPicPr>
        <p:blipFill>
          <a:blip r:embed="rId2"/>
          <a:stretch/>
        </p:blipFill>
        <p:spPr>
          <a:xfrm>
            <a:off x="71658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246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7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8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49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Bild 8" descr=""/>
          <p:cNvPicPr/>
          <p:nvPr/>
        </p:nvPicPr>
        <p:blipFill>
          <a:blip r:embed="rId2"/>
          <a:stretch/>
        </p:blipFill>
        <p:spPr>
          <a:xfrm>
            <a:off x="7165800" y="6335640"/>
            <a:ext cx="2165400" cy="503280"/>
          </a:xfrm>
          <a:prstGeom prst="rect">
            <a:avLst/>
          </a:prstGeom>
          <a:ln w="0">
            <a:noFill/>
          </a:ln>
        </p:spPr>
      </p:pic>
      <p:sp>
        <p:nvSpPr>
          <p:cNvPr id="287" name="Textfeld 2"/>
          <p:cNvSpPr/>
          <p:nvPr/>
        </p:nvSpPr>
        <p:spPr>
          <a:xfrm>
            <a:off x="360360" y="17784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itel | Titel der Präsentation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8" name="Gerade Verbindung 2"/>
          <p:cNvSpPr/>
          <p:nvPr/>
        </p:nvSpPr>
        <p:spPr>
          <a:xfrm>
            <a:off x="347760" y="47628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89" name="Gerade Verbindung 7"/>
          <p:cNvSpPr/>
          <p:nvPr/>
        </p:nvSpPr>
        <p:spPr>
          <a:xfrm>
            <a:off x="324000" y="6381720"/>
            <a:ext cx="846612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290" name="Textfeld 2"/>
          <p:cNvSpPr/>
          <p:nvPr/>
        </p:nvSpPr>
        <p:spPr>
          <a:xfrm>
            <a:off x="360360" y="6440400"/>
            <a:ext cx="63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TT. Monat JJJJ | Vorname Nachname, Funktion/Abteilung (im Folienmaster bearbeiten)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291" name="Bild 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476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747678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7476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4767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4767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476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76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74767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4767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767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747678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74767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74767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7476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74767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678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60360" y="4292280"/>
            <a:ext cx="59752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 Light"/>
              </a:rPr>
              <a:t>Information zum Stand neue Geschäftsstelle in Augsburg</a:t>
            </a:r>
            <a:endParaRPr b="0" lang="en-US" sz="35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0360" y="3916080"/>
            <a:ext cx="5975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Calibri"/>
                <a:ea typeface="Calibri"/>
              </a:rPr>
              <a:t>Personalversammlung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60360" y="6154560"/>
            <a:ext cx="5975280" cy="4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 Light"/>
                <a:ea typeface="Calibri"/>
              </a:rPr>
              <a:t>Ort |  TT. Monat JJJJ | Vorname Nachname, Funktion/Abteilung</a:t>
            </a: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60000" y="59040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ier gibt es eine Tabellenformatvorlage!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0" name="Foliennummernplatzhalter 2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A80D-4773-4CF9-8DCE-51E24A5E6237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60360" y="1116000"/>
          <a:ext cx="8429760" cy="4995720"/>
        </p:xfrm>
        <a:graphic>
          <a:graphicData uri="http://schemas.openxmlformats.org/drawingml/2006/table">
            <a:tbl>
              <a:tblPr/>
              <a:tblGrid>
                <a:gridCol w="1547640"/>
                <a:gridCol w="2165400"/>
                <a:gridCol w="1032120"/>
                <a:gridCol w="925560"/>
                <a:gridCol w="1638000"/>
                <a:gridCol w="1121040"/>
              </a:tblGrid>
              <a:tr h="274320"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720" rIns="90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d9222a"/>
                          </a:solidFill>
                          <a:latin typeface="Calibri"/>
                        </a:rPr>
                        <a:t>Titel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90720" marR="9072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239480">
                <a:tc rowSpan="3"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Das Profil der KJF mit dem Gesamtansatz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„Profilupdate“ im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Verband verstärkt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636462"/>
                          </a:solidFill>
                          <a:latin typeface="Calibri"/>
                          <a:ea typeface="Calibri"/>
                        </a:rPr>
                        <a:t>in den Fokus rück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Fortsetzung des Dialogs zum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Gesamtansatz „Profilupdate“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mit den Führungskräften in einer Leiterkonferenz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Der Gesamtansatz wird von den Mitarbeiter/innen wahrgenomm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siehe Anhang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9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Kommunikation des Profilupdate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Gesamtansatzes mit allen Mitarbeitern z.B. durch: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- Storytelling (regelmäßige Botschaften im KJF-Mitarbeiterportal)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- Anpassung Programm „Herzlich Willkommen“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- Einbindung des Gesamtansatz „Profilupdate“ in das KJF-Führungskräftekonzept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Der Gesamtansatz wird von den Mitarbeiter/innen wahrgenomm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siehe Anhang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2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Fortsetzung des Dialogs zum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Gesamtansatz „Profilupdate“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mit den Führungskräften in einer Leiterkonferenz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1. Quartal 2016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Der Gesamtansatz wird von den Mitarbeiter/innen wahrgenommen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636462"/>
                          </a:solidFill>
                          <a:latin typeface="Calibri Light"/>
                          <a:ea typeface="Calibri Light"/>
                        </a:rPr>
                        <a:t>siehe Anhang</a:t>
                      </a:r>
                      <a:endParaRPr b="0" lang="en-US" sz="1200" spc="-1" strike="noStrike">
                        <a:solidFill>
                          <a:srgbClr val="747678"/>
                        </a:solidFill>
                        <a:latin typeface="Calibri"/>
                      </a:endParaRPr>
                    </a:p>
                  </a:txBody>
                  <a:tcPr anchor="ctr" marL="108000" marR="108000">
                    <a:lnL w="1440">
                      <a:solidFill>
                        <a:srgbClr val="a6a6a6"/>
                      </a:solidFill>
                    </a:lnL>
                    <a:lnR w="1440">
                      <a:solidFill>
                        <a:srgbClr val="a6a6a6"/>
                      </a:solidFill>
                    </a:lnR>
                    <a:lnT w="1440">
                      <a:solidFill>
                        <a:srgbClr val="a6a6a6"/>
                      </a:solidFill>
                    </a:lnT>
                    <a:lnB w="1440">
                      <a:solidFill>
                        <a:srgbClr val="a6a6a6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60360" y="1557000"/>
            <a:ext cx="62928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d9222a"/>
                </a:solidFill>
                <a:latin typeface="Calibri"/>
                <a:ea typeface="Calibri"/>
              </a:rPr>
              <a:t>Vorname Nachnam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60360" y="1885680"/>
            <a:ext cx="629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Funktion, Abteil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60360" y="2226960"/>
            <a:ext cx="62928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inricht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Straße Hausnummer, Postleitzahl Or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Telefonnummer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mail-Adress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60360" y="3757320"/>
            <a:ext cx="629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d9222a"/>
                </a:solidFill>
                <a:latin typeface="Calibri"/>
                <a:ea typeface="Calibri"/>
              </a:rPr>
              <a:t>Vorname Nachnam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360360" y="4087440"/>
            <a:ext cx="62928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Funktion, Abteil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60360" y="4427280"/>
            <a:ext cx="62928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inrichtung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Straße Hausnummer, Postleitzahl Or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Telefonnummer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Email-Adresse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8" name="Foliennummernplatzhalter 7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2147-6FFF-4968-97CB-0BDD44681846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360360" y="950400"/>
            <a:ext cx="629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Bei Rückfragen wenden Sie sich bitte an: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60360" y="3780000"/>
            <a:ext cx="4788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 Light"/>
              </a:rPr>
              <a:t>Vielen Dank!</a:t>
            </a:r>
            <a:endParaRPr b="0" lang="en-US" sz="35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60360" y="3301560"/>
            <a:ext cx="59752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36462"/>
                </a:solidFill>
                <a:latin typeface="Calibri Light"/>
              </a:rPr>
              <a:t>Bericht Abteilung Wirtschaft und Finanzen</a:t>
            </a:r>
            <a:endParaRPr b="0" lang="en-US" sz="35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60360" y="2923920"/>
            <a:ext cx="5975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d9222a"/>
                </a:solidFill>
                <a:latin typeface="Calibri"/>
                <a:ea typeface="Calibri"/>
              </a:rPr>
              <a:t>Personalversammlung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5" name="Foliennummernplatzhalter 3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11EB-1CE3-459F-9F78-600B0679EBB0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2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d9222a"/>
                </a:solidFill>
                <a:latin typeface="Calibri"/>
                <a:ea typeface="Calibri"/>
              </a:rPr>
              <a:t>Inhaltsverzeichnis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60360" y="1584360"/>
            <a:ext cx="503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1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2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3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04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00000" y="1584360"/>
            <a:ext cx="583272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1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2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3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  <a:p>
            <a:pPr indent="0">
              <a:lnSpc>
                <a:spcPts val="22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462"/>
                </a:solidFill>
                <a:latin typeface="Calibri Light"/>
              </a:rPr>
              <a:t>Kapitelpunkt 4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39" name="Foliennummernplatzhalter 4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9B45-032B-401B-B654-462FFFEED138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3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297C-005C-4F3C-9705-DD025D46E5CB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0360" y="1581120"/>
            <a:ext cx="5291280" cy="36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51"/>
              </a:spcBef>
              <a:buClr>
                <a:srgbClr val="d9222a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Bullet 1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buClr>
                <a:srgbClr val="d9222a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Bulle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1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3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451"/>
              </a:spcBef>
              <a:buClr>
                <a:srgbClr val="d9222a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Bulle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1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2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-166680">
              <a:lnSpc>
                <a:spcPts val="1800"/>
              </a:lnSpc>
              <a:spcBef>
                <a:spcPts val="451"/>
              </a:spcBef>
              <a:buClr>
                <a:srgbClr val="636462"/>
              </a:buClr>
              <a:buSzPct val="85000"/>
              <a:buFont typeface="Calibri Ligh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36462"/>
                </a:solidFill>
                <a:latin typeface="Calibri Light"/>
              </a:rPr>
              <a:t>Unterpunkt 3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623880" indent="0">
              <a:lnSpc>
                <a:spcPts val="18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60000" y="1584000"/>
            <a:ext cx="6372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Erstens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 mit ganz viel Tex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Und zweitens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Und noch mehr Unterzeilen mit ganz viel Text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marL="2253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45" name="Foliennummernplatzhalter 3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1624-1F14-4741-AA9B-4FA87185C90A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60360" y="907920"/>
            <a:ext cx="629280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 zum Bild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642920" y="980640"/>
            <a:ext cx="4032360" cy="22575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642920" y="3384720"/>
            <a:ext cx="4032360" cy="22572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60000" y="1584000"/>
            <a:ext cx="4140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Text zum Bild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Noch mehr Text zum Bild.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50" name="Foliennummernplatzhalter 5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85F6-F59F-4653-8EFB-4DBB85A52C2A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035400" y="1368360"/>
            <a:ext cx="2639880" cy="39592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50800" y="1368360"/>
            <a:ext cx="2639880" cy="39592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0360" y="1584000"/>
            <a:ext cx="2627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ts val="2200"/>
              </a:lnSpc>
              <a:spcBef>
                <a:spcPts val="400"/>
              </a:spcBef>
              <a:buClr>
                <a:srgbClr val="6364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36462"/>
                </a:solidFill>
                <a:latin typeface="Calibri"/>
                <a:ea typeface="Calibri"/>
              </a:rPr>
              <a:t>Text zum Bild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  <a:p>
            <a:pPr lvl="1" marL="266760" indent="0">
              <a:lnSpc>
                <a:spcPts val="22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Noch mehr Text zum Bild.</a:t>
            </a:r>
            <a:endParaRPr b="0" lang="en-US" sz="18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55" name="Foliennummernplatzhalter 5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0AD5-D1BD-4A93-8DD1-18093B63B609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68000" y="1368360"/>
            <a:ext cx="2639880" cy="39592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60000" y="5789160"/>
            <a:ext cx="38163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6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Bildunterschrift/Text zum Bild</a:t>
            </a:r>
            <a:endParaRPr b="0" lang="en-US" sz="1400" spc="-1" strike="noStrike">
              <a:solidFill>
                <a:srgbClr val="747678"/>
              </a:solidFill>
              <a:latin typeface="Calibri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6035400" y="1368360"/>
            <a:ext cx="2639880" cy="3959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3250800" y="1368360"/>
            <a:ext cx="2639880" cy="3959280"/>
          </a:xfrm>
          <a:prstGeom prst="rect">
            <a:avLst/>
          </a:prstGeom>
          <a:ln w="0">
            <a:noFill/>
          </a:ln>
        </p:spPr>
      </p:pic>
      <p:sp>
        <p:nvSpPr>
          <p:cNvPr id="360" name="Foliennummernplatzhalter 5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1F93-B10F-432A-8B84-C38C1DD85617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60000" y="90792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68000" y="980640"/>
            <a:ext cx="4032360" cy="22575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68000" y="3384720"/>
            <a:ext cx="4032360" cy="22572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642920" y="980640"/>
            <a:ext cx="4032360" cy="22575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4642920" y="3384720"/>
            <a:ext cx="4032360" cy="22572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360000" y="5789160"/>
            <a:ext cx="38163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698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636462"/>
                </a:solidFill>
                <a:latin typeface="Calibri Light"/>
                <a:ea typeface="Calibri Light"/>
              </a:rPr>
              <a:t>Bildunterschrift/Text zum Bild</a:t>
            </a:r>
            <a:endParaRPr b="0" lang="en-US" sz="14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67" name="Foliennummernplatzhalter 6"/>
          <p:cNvSpPr/>
          <p:nvPr/>
        </p:nvSpPr>
        <p:spPr>
          <a:xfrm>
            <a:off x="6732720" y="167760"/>
            <a:ext cx="2057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AE82-1324-4B58-86C6-586570C76555}" type="slidenum">
              <a:rPr b="0" lang="de-DE" sz="1000" spc="-1" strike="noStrike">
                <a:solidFill>
                  <a:srgbClr val="a6a6a6"/>
                </a:solidFill>
                <a:latin typeface="Calibri Light"/>
                <a:ea typeface="Calibri Light"/>
              </a:rPr>
              <a:t>&lt;number&gt;</a:t>
            </a:fld>
            <a:endParaRPr b="0" lang="en-US" sz="1000" spc="-1" strike="noStrike">
              <a:solidFill>
                <a:srgbClr val="747678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0000" y="590400"/>
            <a:ext cx="63723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36462"/>
                </a:solidFill>
                <a:latin typeface="Calibri"/>
                <a:ea typeface="Calibri"/>
              </a:rPr>
              <a:t>Headline</a:t>
            </a:r>
            <a:endParaRPr b="0" lang="en-US" sz="2000" spc="-1" strike="noStrike">
              <a:solidFill>
                <a:srgbClr val="74767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9:41:30Z</dcterms:created>
  <dc:creator>Melanie Dippert</dc:creator>
  <dc:description/>
  <dc:language>en-US</dc:language>
  <cp:lastModifiedBy>Microsoft Office-Anwender</cp:lastModifiedBy>
  <cp:lastPrinted>2017-10-24T09:28:59Z</cp:lastPrinted>
  <dcterms:modified xsi:type="dcterms:W3CDTF">2017-10-24T10:26:58Z</dcterms:modified>
  <cp:revision>97</cp:revision>
  <dc:subject/>
  <dc:title>PowerPoint-Präsentation</dc:title>
</cp:coreProperties>
</file>