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6A60-8B3C-4622-B6D0-EF4B7C2E3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7E7A-EFB9-4CF2-A235-A19019A6D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7BDA-A62D-4BEE-8D28-0FD02ADBC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32AE-4581-4D16-9BD0-D2217B9AC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94A2-B776-4B74-A13D-15B7053DF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2421-F800-4D1B-B949-FF25B07016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9214-A8E5-453F-AC32-6E87C4A4F0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260F8-9106-4C21-B186-74EBD11E06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BE223-AE20-4C17-B738-7D9DD4EFA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A20B-2E94-4152-B81B-9CACECD7AB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9CA9-5A23-469D-956D-206B7C83F5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3952-4E05-43E1-8F14-44EEADAE79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0817-E4E1-4E16-9AD3-9DCF7BFE53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D196-C0B1-4E95-9753-01789D0406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B37C-82C5-43B9-96AD-3391629EC9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9C297-CEC0-4290-AA35-37845EE7E2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EF09B-A439-4408-9F19-C7C803257F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0EC66-2773-42B5-9A38-6EEE9DF98D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4F48-5029-4F6A-AA58-E9A4F0E4CAA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F20-E616-496B-BCFA-A7C01026C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E99E-6B27-4A73-ABA9-97466467236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247-E989-4FC3-89BE-B50E433BE01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DF7-E421-42C4-A9BD-2CA726E24F3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3C3-5A83-4CEE-81F4-2C662F6B921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C61-E565-427A-9E88-0E326643ECD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2F2-47CC-43C4-9B4E-DA83730AFFF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F78-1A50-43C8-995E-C05B645514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16F-E505-4D1E-92FB-A74CDFDB822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23E-B5CA-4F66-9B61-9DE718171BF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6968-D5F8-4A21-B6DD-C048A4A1292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0C7-422C-4E8B-9D0C-0425B0F1B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CB31-6CA9-4B1E-8FBC-F071548C6F3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62C-DDA0-4430-A7DF-8883315353A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C805-7E6A-4EA9-9F7E-57FE59F3CBD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99CC-77CC-4214-B571-9BD6795A667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26B5-6766-4CEE-AF18-ED96ACD3E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8" descr=""/>
          <p:cNvPicPr/>
          <p:nvPr/>
        </p:nvPicPr>
        <p:blipFill>
          <a:blip r:embed="rId2"/>
          <a:stretch/>
        </p:blipFill>
        <p:spPr>
          <a:xfrm>
            <a:off x="70200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1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422B-2BF8-4703-8AD1-F96567D22B88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ild 8" descr=""/>
          <p:cNvPicPr/>
          <p:nvPr/>
        </p:nvPicPr>
        <p:blipFill>
          <a:blip r:embed="rId2"/>
          <a:stretch/>
        </p:blipFill>
        <p:spPr>
          <a:xfrm>
            <a:off x="70200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4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5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6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47" name="Bild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ild 8" descr=""/>
          <p:cNvPicPr/>
          <p:nvPr/>
        </p:nvPicPr>
        <p:blipFill>
          <a:blip r:embed="rId2"/>
          <a:stretch/>
        </p:blipFill>
        <p:spPr>
          <a:xfrm>
            <a:off x="70200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85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6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7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8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Bild 8" descr=""/>
          <p:cNvPicPr/>
          <p:nvPr/>
        </p:nvPicPr>
        <p:blipFill>
          <a:blip r:embed="rId2"/>
          <a:stretch/>
        </p:blipFill>
        <p:spPr>
          <a:xfrm>
            <a:off x="70200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126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7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8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9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130" name="Bild 9" descr=""/>
          <p:cNvPicPr/>
          <p:nvPr/>
        </p:nvPicPr>
        <p:blipFill>
          <a:blip r:embed="rId3"/>
          <a:srcRect l="0" t="6489" r="0" b="7057"/>
          <a:stretch/>
        </p:blipFill>
        <p:spPr>
          <a:xfrm>
            <a:off x="0" y="47628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ldNum" idx="2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248D-E40C-4C5B-96EC-DAACCBF26239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Bild 8" descr=""/>
          <p:cNvPicPr/>
          <p:nvPr/>
        </p:nvPicPr>
        <p:blipFill>
          <a:blip r:embed="rId2"/>
          <a:stretch/>
        </p:blipFill>
        <p:spPr>
          <a:xfrm>
            <a:off x="70200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169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0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1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2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grpSp>
        <p:nvGrpSpPr>
          <p:cNvPr id="173" name="Tabellenplatzhalter 5"/>
          <p:cNvGrpSpPr/>
          <p:nvPr/>
        </p:nvGrpSpPr>
        <p:grpSpPr>
          <a:xfrm>
            <a:off x="360360" y="1116000"/>
            <a:ext cx="8429760" cy="4995720"/>
            <a:chOff x="360360" y="1116000"/>
            <a:chExt cx="8429760" cy="4995720"/>
          </a:xfrm>
        </p:grpSpPr>
        <p:sp>
          <p:nvSpPr>
            <p:cNvPr id="174" name=""/>
            <p:cNvSpPr/>
            <p:nvPr/>
          </p:nvSpPr>
          <p:spPr>
            <a:xfrm>
              <a:off x="360360" y="1116000"/>
              <a:ext cx="15476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79b8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8000" y="1116000"/>
              <a:ext cx="21654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79b8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73400" y="1116000"/>
              <a:ext cx="10321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79b8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05520" y="1116000"/>
              <a:ext cx="9255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79b8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31080" y="1116000"/>
              <a:ext cx="16380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79b8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69080" y="1116000"/>
              <a:ext cx="11210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79b8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0360" y="1487520"/>
              <a:ext cx="1547640" cy="4624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Das Profil der KJF mit dem Gesamtansatz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„Profilupdate“ im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Verband verstärkt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in den Fokus rück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8000" y="1487520"/>
              <a:ext cx="21654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Fortsetzung des Dialogs zum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 „Profilupdate“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mit den Führungskräften in einer Leiterkonferenz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73400" y="1487520"/>
              <a:ext cx="103212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05520" y="1487520"/>
              <a:ext cx="92556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1080" y="1487520"/>
              <a:ext cx="16380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69080" y="1487520"/>
              <a:ext cx="112104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8000" y="2394000"/>
              <a:ext cx="216540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Kommunikation des Profilupdate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es mit allen Mitarbeitern z.B. durch: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Storytelling (regelmäßige Botschaften im KJF-Mitarbeiterportal)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Anpassung Programm „Herzlich Willkommen“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Einbindung des Gesamtansatz „Profilupdate“ in das KJF-Führungskräftekonzept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73400" y="2394000"/>
              <a:ext cx="103212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05520" y="2394000"/>
              <a:ext cx="92556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31080" y="2394000"/>
              <a:ext cx="163800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69080" y="2394000"/>
              <a:ext cx="112104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08000" y="5205240"/>
              <a:ext cx="21654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Fortsetzung des Dialogs zum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 „Profilupdate“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mit den Führungskräften in einer Leiterkonferenz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73400" y="5205240"/>
              <a:ext cx="103212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05520" y="5205240"/>
              <a:ext cx="92556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31080" y="5205240"/>
              <a:ext cx="16380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69080" y="5205240"/>
              <a:ext cx="112104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800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7340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3108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6908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0360" y="148752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08000" y="2394000"/>
              <a:ext cx="688212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08000" y="5205240"/>
              <a:ext cx="688212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036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79012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0360" y="111600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0360" y="611172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sldNum" idx="3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A9D6-69E2-4BE2-A5F7-52638B9C08A7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Bild 8" descr=""/>
          <p:cNvPicPr/>
          <p:nvPr/>
        </p:nvPicPr>
        <p:blipFill>
          <a:blip r:embed="rId2"/>
          <a:stretch/>
        </p:blipFill>
        <p:spPr>
          <a:xfrm>
            <a:off x="70200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246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7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8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9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Bild 8" descr=""/>
          <p:cNvPicPr/>
          <p:nvPr/>
        </p:nvPicPr>
        <p:blipFill>
          <a:blip r:embed="rId2"/>
          <a:stretch/>
        </p:blipFill>
        <p:spPr>
          <a:xfrm>
            <a:off x="70200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287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8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9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90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291" name="Bild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476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7476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4767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476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76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4767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476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767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47678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74767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60360" y="4292280"/>
            <a:ext cx="59752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 Light"/>
              </a:rPr>
              <a:t>Information zum Stand neue Geschäftsstelle in Augsburg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0360" y="3916080"/>
            <a:ext cx="5975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alibri"/>
                <a:ea typeface="Calibri"/>
              </a:rPr>
              <a:t>Personalversammlung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0360" y="6154560"/>
            <a:ext cx="5975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 Light"/>
                <a:ea typeface="Calibri"/>
              </a:rPr>
              <a:t>Ort |  TT. Monat JJJJ | Vorname Nachname, Funktion/Abteilung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60000" y="59040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ier gibt es eine Tabellenformatvorlage!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0" name="Foliennummernplatzhalter 2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A282-9D34-40A3-AC79-0F6480668E27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60360" y="1116000"/>
          <a:ext cx="8429760" cy="4995720"/>
        </p:xfrm>
        <a:graphic>
          <a:graphicData uri="http://schemas.openxmlformats.org/drawingml/2006/table">
            <a:tbl>
              <a:tblPr/>
              <a:tblGrid>
                <a:gridCol w="1547640"/>
                <a:gridCol w="2165400"/>
                <a:gridCol w="1032120"/>
                <a:gridCol w="925560"/>
                <a:gridCol w="1638000"/>
                <a:gridCol w="1121040"/>
              </a:tblGrid>
              <a:tr h="274320"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79b8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79b8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79b8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79b8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79b8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79b8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239480">
                <a:tc rowSpan="3"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Das Profil der KJF mit dem Gesamtansatz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„Profilupdate“ im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Verband verstärkt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in den Fokus rück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Fortsetzung des Dialogs zum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 „Profilupdate“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mit den Führungskräften in einer Leiterkonferenz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9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Kommunikation des Profilupdate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es mit allen Mitarbeitern z.B. durch: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Storytelling (regelmäßige Botschaften im KJF-Mitarbeiterportal)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Anpassung Programm „Herzlich Willkommen“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Einbindung des Gesamtansatz „Profilupdate“ in das KJF-Führungskräftekonzept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2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Fortsetzung des Dialogs zum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 „Profilupdate“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mit den Führungskräften in einer Leiterkonferenz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60360" y="1557000"/>
            <a:ext cx="62928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79b82a"/>
                </a:solidFill>
                <a:latin typeface="Calibri"/>
                <a:ea typeface="Calibri"/>
              </a:rPr>
              <a:t>Vorname Nachnam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60360" y="188568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Funktion, Abteil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60360" y="2226960"/>
            <a:ext cx="6292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inricht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Straße Hausnummer, Postleitzahl Or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Telefonnummer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mail-Adress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60360" y="375732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79b82a"/>
                </a:solidFill>
                <a:latin typeface="Calibri"/>
                <a:ea typeface="Calibri"/>
              </a:rPr>
              <a:t>Vorname Nachnam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60360" y="4087440"/>
            <a:ext cx="62928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Funktion, Abteil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60360" y="4427280"/>
            <a:ext cx="6292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inricht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Straße Hausnummer, Postleitzahl Or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Telefonnummer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mail-Adress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8" name="Foliennummernplatzhalter 7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8670-7D72-401C-BB86-FDC0693F91C6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360360" y="95040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Bei Rückfragen wenden Sie sich bitte an: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60360" y="3780000"/>
            <a:ext cx="4788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 Light"/>
              </a:rPr>
              <a:t>Vielen Dank!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60360" y="3301560"/>
            <a:ext cx="59752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36462"/>
                </a:solidFill>
                <a:latin typeface="Calibri Light"/>
              </a:rPr>
              <a:t>Bericht Abteilung Wirtschaft und Finanzen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60360" y="2923920"/>
            <a:ext cx="5975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9b82a"/>
                </a:solidFill>
                <a:latin typeface="Calibri"/>
                <a:ea typeface="Calibri"/>
              </a:rPr>
              <a:t>Personalversammlung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5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F093-35EF-4359-8969-1F036ABE3E24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2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9b82a"/>
                </a:solidFill>
                <a:latin typeface="Calibri"/>
                <a:ea typeface="Calibri"/>
              </a:rPr>
              <a:t>Inhaltsverzeichnis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60360" y="1584360"/>
            <a:ext cx="503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1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2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3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4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00000" y="1584360"/>
            <a:ext cx="583272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1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2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3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4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9" name="Foliennummernplatzhalter 4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F15B-C4B7-4ADF-9D0A-A8BB685991ED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3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1B68-EA9B-46F4-B016-21F5425F7E4A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0360" y="1581120"/>
            <a:ext cx="529128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79b8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79b8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3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79b8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3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6372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Erstens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 mit ganz viel Tex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Und zweitens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 mit ganz viel Tex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253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5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33DD-01B6-41BA-9F47-EC934C363ABF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60360" y="907920"/>
            <a:ext cx="629280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 zum Bild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64292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642920" y="3384720"/>
            <a:ext cx="4032360" cy="22572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4140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Text zum Bild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Noch mehr Text zum Bild.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50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3E07-BA58-4B77-B778-DBA7F6DB2F04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035400" y="1368360"/>
            <a:ext cx="2639880" cy="39592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508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0360" y="1584000"/>
            <a:ext cx="2627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Text zum Bild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Noch mehr Text zum Bild.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55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468D-5DB0-407D-94D2-E74B45086B20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680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60000" y="5789160"/>
            <a:ext cx="3816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6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Bildunterschrift/Text zum Bild</a:t>
            </a:r>
            <a:endParaRPr b="0" lang="en-US" sz="14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6035400" y="1368360"/>
            <a:ext cx="2639880" cy="3959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32508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60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E93C-352E-41EF-A31A-8E3797EEF2B9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800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68000" y="3384720"/>
            <a:ext cx="4032360" cy="22572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64292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4642920" y="3384720"/>
            <a:ext cx="4032360" cy="22572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60000" y="5789160"/>
            <a:ext cx="3816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6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Bildunterschrift/Text zum Bild</a:t>
            </a:r>
            <a:endParaRPr b="0" lang="en-US" sz="14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7" name="Foliennummernplatzhalter 6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C7AC-0B7D-49E7-A91D-51B483E214BC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0000" y="59040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9:41:30Z</dcterms:created>
  <dc:creator>Melanie Dippert</dc:creator>
  <dc:description/>
  <dc:language>en-US</dc:language>
  <cp:lastModifiedBy>Microsoft Office-Anwender</cp:lastModifiedBy>
  <cp:lastPrinted>2017-10-24T12:23:58Z</cp:lastPrinted>
  <dcterms:modified xsi:type="dcterms:W3CDTF">2017-10-24T12:58:29Z</dcterms:modified>
  <cp:revision>93</cp:revision>
  <dc:subject/>
  <dc:title>PowerPoint-Präsentation</dc:title>
</cp:coreProperties>
</file>