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1308-AB1A-48AF-9E22-5917B9D0E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BA09-3A04-4F85-B178-491F8E742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D9C1-361B-4349-9ABB-561040F52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950D-B547-4953-BEE0-7FBF117BB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2129-595E-4400-A977-EBF4A5903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7A51-05F3-4368-8D12-3C8A3CE43C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AD9E-67DD-4905-934C-0571FB2E89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39FD-4FD4-4187-8593-B59996DE29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9A1FE-0BBB-40DE-BE38-C09CF738A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E4B3-934C-4135-BAA5-CE6EBF1EEB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D312-C8C3-4D70-BD39-1B30551472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A135-509B-4C1B-BC85-244E24F23A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0DB2-B1C4-4BA6-AB2C-8FEBCD4E22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9C76-4B62-42C1-B677-8D11B08AE8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DB0F-42C1-45CC-B18B-A6356B1827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EE3F5-B986-4BF4-A233-7977DEBC6F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982A-2F6B-476B-B48E-D2D3822F87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9144-08E4-4141-A7D5-ADEAC6F0AC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CA37D-C293-4B27-BF6F-1DAB3863C28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F17-4595-495F-A528-A070C21EE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D8E6-530D-4BC0-97EC-7B5C8F61833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F1A-9653-4FA3-97D4-37A135C620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C3D-B813-43E6-8BF8-9B766AF401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CE6-06D4-4281-AFC8-F6A9CE8966C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ECC-B2CA-4064-9AB8-2AFB5B2183C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854-87BC-41F9-A03C-045C2DD45E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C76-FC65-44E8-8A9A-E017F0DC75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E8F-390D-4DB9-AC05-88013C65B6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AA1-B507-4573-89B7-D4EC9EBA12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EDF-AF6C-45D0-9690-56EFD17B4E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CC5-BF52-450A-9DF1-FE5F0A5F7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EED4-24E1-4C8A-A7F5-BA2A0B9C8FC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99F-FF29-4010-B2DF-47A5FE7AC20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39C4-0D09-4BB6-AA91-D0CBDA956F1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50E5-C6A3-4BA1-8D6D-B6579B113CB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A91B-022D-4AD6-8426-66AA7D04E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1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428C-2164-4431-B245-FA672D54AD65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4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5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6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47" name="Bild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85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6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7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8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126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7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8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9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130" name="Bild 9" descr=""/>
          <p:cNvPicPr/>
          <p:nvPr/>
        </p:nvPicPr>
        <p:blipFill>
          <a:blip r:embed="rId3"/>
          <a:srcRect l="0" t="6489" r="0" b="7057"/>
          <a:stretch/>
        </p:blipFill>
        <p:spPr>
          <a:xfrm>
            <a:off x="0" y="47628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ldNum" idx="2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6EA8-DA9F-42FB-81DA-FA4939BD6E49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169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0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1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2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grpSp>
        <p:nvGrpSpPr>
          <p:cNvPr id="173" name="Tabellenplatzhalter 5"/>
          <p:cNvGrpSpPr/>
          <p:nvPr/>
        </p:nvGrpSpPr>
        <p:grpSpPr>
          <a:xfrm>
            <a:off x="360360" y="1116000"/>
            <a:ext cx="8429760" cy="4995720"/>
            <a:chOff x="360360" y="1116000"/>
            <a:chExt cx="8429760" cy="4995720"/>
          </a:xfrm>
        </p:grpSpPr>
        <p:sp>
          <p:nvSpPr>
            <p:cNvPr id="174" name=""/>
            <p:cNvSpPr/>
            <p:nvPr/>
          </p:nvSpPr>
          <p:spPr>
            <a:xfrm>
              <a:off x="360360" y="1116000"/>
              <a:ext cx="15476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1116000"/>
              <a:ext cx="21654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73400" y="1116000"/>
              <a:ext cx="10321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05520" y="1116000"/>
              <a:ext cx="9255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31080" y="1116000"/>
              <a:ext cx="16380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69080" y="1116000"/>
              <a:ext cx="11210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0360" y="1487520"/>
              <a:ext cx="1547640" cy="4624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Das Profil der KJF mit dem Gesamtansatz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„Profilupdate“ im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Verband verstärkt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in den Fokus rück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8000" y="1487520"/>
              <a:ext cx="21654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Fortsetzung des Dialogs zum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 „Profilupdate“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mit den Führungskräften in einer Leiterkonferenz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73400" y="1487520"/>
              <a:ext cx="103212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05520" y="1487520"/>
              <a:ext cx="92556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1080" y="1487520"/>
              <a:ext cx="16380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69080" y="1487520"/>
              <a:ext cx="112104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8000" y="2394000"/>
              <a:ext cx="216540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Kommunikation des Profilupdate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es mit allen Mitarbeitern z.B. durch: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Storytelling (regelmäßige Botschaften im KJF-Mitarbeiterportal)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Anpassung Programm „Herzlich Willkommen“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Einbindung des Gesamtansatz „Profilupdate“ in das KJF-Führungskräftekonzept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73400" y="2394000"/>
              <a:ext cx="103212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520" y="2394000"/>
              <a:ext cx="92556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31080" y="2394000"/>
              <a:ext cx="163800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69080" y="2394000"/>
              <a:ext cx="112104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08000" y="5205240"/>
              <a:ext cx="21654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Fortsetzung des Dialogs zum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 „Profilupdate“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mit den Führungskräften in einer Leiterkonferenz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3400" y="5205240"/>
              <a:ext cx="103212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05520" y="5205240"/>
              <a:ext cx="92556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31080" y="5205240"/>
              <a:ext cx="16380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69080" y="5205240"/>
              <a:ext cx="112104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800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7340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3108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6908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0360" y="148752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08000" y="2394000"/>
              <a:ext cx="688212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08000" y="5205240"/>
              <a:ext cx="688212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036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9012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0360" y="111600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0360" y="611172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sldNum" idx="3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E2CB-A8BF-4C79-A697-23FB5F62F948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246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7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8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9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Bild 8" descr=""/>
          <p:cNvPicPr/>
          <p:nvPr/>
        </p:nvPicPr>
        <p:blipFill>
          <a:blip r:embed="rId2"/>
          <a:stretch/>
        </p:blipFill>
        <p:spPr>
          <a:xfrm>
            <a:off x="7164360" y="6335640"/>
            <a:ext cx="2168640" cy="503280"/>
          </a:xfrm>
          <a:prstGeom prst="rect">
            <a:avLst/>
          </a:prstGeom>
          <a:ln w="0">
            <a:noFill/>
          </a:ln>
        </p:spPr>
      </p:pic>
      <p:sp>
        <p:nvSpPr>
          <p:cNvPr id="287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8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9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90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291" name="Bild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476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747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4767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476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76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4767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476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767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47678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74767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60360" y="4292280"/>
            <a:ext cx="59752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 Light"/>
              </a:rPr>
              <a:t>Information zum Stand neue Geschäftsstelle in Augsburg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0360" y="3916080"/>
            <a:ext cx="597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  <a:ea typeface="Calibri"/>
              </a:rPr>
              <a:t>Personalversammlung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0360" y="6154560"/>
            <a:ext cx="597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  <a:ea typeface="Calibri"/>
              </a:rPr>
              <a:t>Ort |  TT. Monat JJJJ | Vorname Nachname, Funktion/Abteilung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60000" y="59040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ier gibt es eine Tabellenformatvorlage!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B738-F8CF-48F8-9F35-E6FE2C499A54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60360" y="1116000"/>
          <a:ext cx="8429760" cy="4995720"/>
        </p:xfrm>
        <a:graphic>
          <a:graphicData uri="http://schemas.openxmlformats.org/drawingml/2006/table">
            <a:tbl>
              <a:tblPr/>
              <a:tblGrid>
                <a:gridCol w="1547640"/>
                <a:gridCol w="2165400"/>
                <a:gridCol w="1032120"/>
                <a:gridCol w="925560"/>
                <a:gridCol w="1638000"/>
                <a:gridCol w="1121040"/>
              </a:tblGrid>
              <a:tr h="274320"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239480">
                <a:tc rowSpan="3"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Das Profil der KJF mit dem Gesamtansatz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„Profilupdate“ im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Verband verstärkt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in den Fokus rück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Fortsetzung des Dialogs zum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 „Profilupdate“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mit den Führungskräften in einer Leiterkonferenz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9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Kommunikation des Profilupdate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es mit allen Mitarbeitern z.B. durch: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Storytelling (regelmäßige Botschaften im KJF-Mitarbeiterportal)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Anpassung Programm „Herzlich Willkommen“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Einbindung des Gesamtansatz „Profilupdate“ in das KJF-Führungskräftekonzept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2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Fortsetzung des Dialogs zum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 „Profilupdate“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mit den Führungskräften in einer Leiterkonferenz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60360" y="1557000"/>
            <a:ext cx="6292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9222a"/>
                </a:solidFill>
                <a:latin typeface="Calibri"/>
                <a:ea typeface="Calibri"/>
              </a:rPr>
              <a:t>Vorname Nachnam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60360" y="188568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Funktion, Abteil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60360" y="2226960"/>
            <a:ext cx="6292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inricht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Straße Hausnummer, Postleitzahl Or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Telefonnummer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mail-Adress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60360" y="375732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9222a"/>
                </a:solidFill>
                <a:latin typeface="Calibri"/>
                <a:ea typeface="Calibri"/>
              </a:rPr>
              <a:t>Vorname Nachnam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60360" y="4087440"/>
            <a:ext cx="6292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Funktion, Abteil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60360" y="4427280"/>
            <a:ext cx="6292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inricht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Straße Hausnummer, Postleitzahl Or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Telefonnummer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mail-Adress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8" name="Foliennummernplatzhalter 7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67D6-26E5-44B7-9256-AE3F8C8B7E6B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60360" y="95040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Bei Rückfragen wenden Sie sich bitte an: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60360" y="3780000"/>
            <a:ext cx="4788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 Light"/>
              </a:rPr>
              <a:t>Vielen Dank!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60360" y="3301560"/>
            <a:ext cx="59752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36462"/>
                </a:solidFill>
                <a:latin typeface="Calibri Light"/>
              </a:rPr>
              <a:t>Bericht Abteilung Wirtschaft und Finanzen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60360" y="2923920"/>
            <a:ext cx="5975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9222a"/>
                </a:solidFill>
                <a:latin typeface="Calibri"/>
                <a:ea typeface="Calibri"/>
              </a:rPr>
              <a:t>Personalversammlung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5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0F97-9482-4270-B9A7-25B6CDF59C32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2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9222a"/>
                </a:solidFill>
                <a:latin typeface="Calibri"/>
                <a:ea typeface="Calibri"/>
              </a:rPr>
              <a:t>Inhaltsverzeichnis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0360" y="1584360"/>
            <a:ext cx="503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1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2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3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4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00000" y="1584360"/>
            <a:ext cx="583272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1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2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3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4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9" name="Foliennummernplatzhalter 4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4069-EB6F-42A5-9AC1-6B38FDD25231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3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1421-FC29-4B64-97D5-0615D3871607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0360" y="1581120"/>
            <a:ext cx="529128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d922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d922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3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d922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3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6372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Erstens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 mit ganz viel Tex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Und zweitens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 mit ganz viel Tex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253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A617-4E62-4096-B0A9-0F90F0374566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60360" y="907920"/>
            <a:ext cx="62928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 zum Bild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64292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642920" y="3384720"/>
            <a:ext cx="4032360" cy="22572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4140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Text zum Bild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Noch mehr Text zum Bild.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50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84BB-D441-4718-B642-3CDA7A2EE597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035400" y="1368360"/>
            <a:ext cx="2639880" cy="3959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508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0360" y="1584000"/>
            <a:ext cx="2627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Text zum Bild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Noch mehr Text zum Bild.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55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32CC-F432-4D45-ADE3-B66FACBEA69A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680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0000" y="5789160"/>
            <a:ext cx="3816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6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Bildunterschrift/Text zum Bild</a:t>
            </a:r>
            <a:endParaRPr b="0" lang="en-US" sz="14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035400" y="1368360"/>
            <a:ext cx="2639880" cy="3959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32508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60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A6B5-F575-4CB4-812D-8F2D2C878C7A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800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68000" y="3384720"/>
            <a:ext cx="4032360" cy="22572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64292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4642920" y="3384720"/>
            <a:ext cx="4032360" cy="22572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60000" y="5789160"/>
            <a:ext cx="3816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6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Bildunterschrift/Text zum Bild</a:t>
            </a:r>
            <a:endParaRPr b="0" lang="en-US" sz="14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7" name="Foliennummernplatzhalter 6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3FE6-2AFE-48CE-A03F-01457B05B296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0000" y="59040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9:41:30Z</dcterms:created>
  <dc:creator>Melanie Dippert</dc:creator>
  <dc:description/>
  <dc:language>en-US</dc:language>
  <cp:lastModifiedBy>Microsoft Office-Anwender</cp:lastModifiedBy>
  <cp:lastPrinted>2017-10-24T09:33:50Z</cp:lastPrinted>
  <dcterms:modified xsi:type="dcterms:W3CDTF">2017-10-24T09:48:01Z</dcterms:modified>
  <cp:revision>90</cp:revision>
  <dc:subject/>
  <dc:title>PowerPoint-Präsentation</dc:title>
</cp:coreProperties>
</file>